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2A1-0619-4AC8-A43B-E9D943BC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53B-4D5C-4A19-8497-27818D56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C01-A069-4F77-B492-58CEABE9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842-D144-440B-8BDF-9AF41355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A981-22C5-4CF8-BB22-22A92A31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80CB-7C10-407C-8ADE-4821BCB8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0AF7-7B75-45E3-9FDA-F57BFEB1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575D-18DA-452E-811C-15D142B4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038C-BD62-4D82-81CD-C7840AD2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5193-1959-49D6-9473-32749A3D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2F83-7175-4D54-B0EF-63621D65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9E2-6466-4494-8B83-B14779AF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05B3-F3C9-4192-AB74-56D48021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A1D4-EF3E-428E-B204-B9062C7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0A82-9A2C-40B4-8FA5-2C0BB106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45C9-9EEB-489E-80A6-95783D52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A373-15C2-408B-BFB4-17145B28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C7D-3DD7-49F2-B8C9-7A359048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C2E-D97F-4C8D-8436-FCD77AB1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E44-4050-4802-95DA-06D6DA27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6A5-98AE-43E3-9022-78160B4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158-6BA5-40C9-8DEB-5D587549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1EB-1E9C-4806-8C4F-B0B2BA22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3889-132E-4DFD-BB33-66E9EEC9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352D-7F8B-4E2E-B61C-DF5A381906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9C45-0293-402F-94BB-070574224B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2565360"/>
            <a:ext cx="87631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-ROBOT ROUTE FOLLOWING USING OMNIDIRECTIONAL VISION AND APPEARANCE-BASED REPRESENTATION OF TH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23640" y="4723920"/>
            <a:ext cx="856908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. Payá, O. Reinoso, A. Gil, J. Sogor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1073160" cy="1081080"/>
          </a:xfrm>
          <a:prstGeom prst="rect">
            <a:avLst/>
          </a:prstGeom>
          <a:ln w="3240">
            <a:solidFill>
              <a:srgbClr val="3333ff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250920" y="1341360"/>
            <a:ext cx="8569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IGUEL HERNÁNDEZ UNIVERSITY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DUSTRIAL ENGINEERING SYSTEMS DEPARTM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2276640"/>
            <a:ext cx="864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5300640"/>
            <a:ext cx="8569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397240" y="5589720"/>
          <a:ext cx="4551120" cy="96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97240" y="5589720"/>
                    <a:ext cx="4551120" cy="960480"/>
                  </a:xfrm>
                  <a:prstGeom prst="rect">
                    <a:avLst/>
                  </a:prstGeom>
                  <a:ln w="648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3240000" cy="1082520"/>
          </a:xfrm>
          <a:prstGeom prst="rect">
            <a:avLst/>
          </a:prstGeom>
          <a:ln w="3240">
            <a:solidFill>
              <a:srgbClr val="000099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363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in methods to carry out visual rout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ff"/>
                </a:solidFill>
                <a:latin typeface="Arial"/>
              </a:rPr>
              <a:t>Model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ppearance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35640" y="1916280"/>
            <a:ext cx="3529080" cy="1524960"/>
          </a:xfrm>
          <a:prstGeom prst="rect">
            <a:avLst/>
          </a:prstGeom>
          <a:noFill/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Some features of the image are extracted to carry out localization and navigati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Hard to use in non-structured environment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11640" y="2133720"/>
            <a:ext cx="1081080" cy="0"/>
          </a:xfrm>
          <a:prstGeom prst="line">
            <a:avLst/>
          </a:prstGeom>
          <a:ln w="63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363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in methods to carry out visual rout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odel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ff"/>
                </a:solidFill>
                <a:latin typeface="Arial"/>
              </a:rPr>
              <a:t>Appearance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1916280"/>
            <a:ext cx="3529080" cy="2437560"/>
          </a:xfrm>
          <a:prstGeom prst="rect">
            <a:avLst/>
          </a:prstGeom>
          <a:noFill/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The scenes are stored with no feature extracti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Recognition is achieved based on the matching of the whole image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Problem with the size of the database and computational cos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2708280"/>
            <a:ext cx="433440" cy="0"/>
          </a:xfrm>
          <a:prstGeom prst="line">
            <a:avLst/>
          </a:prstGeom>
          <a:ln w="63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363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in methods to carry out visual rout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odel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ff"/>
                </a:solidFill>
                <a:latin typeface="Arial"/>
              </a:rPr>
              <a:t>Appearance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3068640"/>
            <a:ext cx="828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5050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tho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5080" indent="-335880"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 comparison of low-resolution ima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5080" indent="-335880"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of histogram and other global fe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5080" indent="-335880"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duce previously the dimensionality of the data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CA, Fourier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5080" indent="-335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5080" indent="-335880"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Learning ph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The robot stores general visual information from several points of view along the rou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5080" indent="-335880"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Navigation ph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The robot follows the route comparing the current visual information with the store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8000" y="1274760"/>
            <a:ext cx="8856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8400" indent="-60948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JECTIVE: Framework to carry out multi-robot route following using visual information and with an appearance-based approa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268360" y="2133720"/>
            <a:ext cx="4751640" cy="454176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1130400"/>
            <a:ext cx="88567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35712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64 x 256 images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ata vectors of 16384 elemen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ted with a 3 DOF process (Position and orientation of the robo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357120"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jective: Discard irrelevant or redundant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CA can be used for dimensionality redu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835280" y="2781360"/>
            <a:ext cx="50418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1130400"/>
            <a:ext cx="88567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35712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64 x 256 images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ata vectors of 16384 elemen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ted with a 3 DOF process (Position and orientation of the robo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357120"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jective: Discard irrelevant or redundant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CA can be used for dimensionality redu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080" y="3510000"/>
            <a:ext cx="2843280" cy="100800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51640" y="3726000"/>
            <a:ext cx="1584360" cy="5047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35080" y="3598920"/>
                <a:ext cx="26082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r>
                              <m:t xml:space="preserve">…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3492360" y="3581280"/>
            <a:ext cx="3240360" cy="70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VD of the Covariance of the Data Matrix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524720" y="3726000"/>
                <a:ext cx="1403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·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2989440" y="379728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3366ff"/>
          </a:solidFill>
          <a:ln w="381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4653000"/>
            <a:ext cx="8964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X</a:t>
            </a:r>
            <a:r>
              <a:rPr b="0" lang="en-GB" sz="1800" spc="-1" strike="noStrike">
                <a:solidFill>
                  <a:srgbClr val="969696"/>
                </a:solidFill>
                <a:latin typeface="Tahoma"/>
              </a:rPr>
              <a:t> = Data Matrix (M x N, N images x </a:t>
            </a:r>
            <a:r>
              <a:rPr b="0" lang="en-GB" sz="1800" spc="-1" strike="noStrike" baseline="30000">
                <a:solidFill>
                  <a:srgbClr val="969696"/>
                </a:solidFill>
                <a:latin typeface="Tahoma"/>
              </a:rPr>
              <a:t>j</a:t>
            </a:r>
            <a:r>
              <a:rPr b="0" lang="en-GB" sz="1800" spc="-1" strike="noStrike">
                <a:solidFill>
                  <a:srgbClr val="969696"/>
                </a:solidFill>
                <a:latin typeface="Tahoma"/>
              </a:rPr>
              <a:t>, M pixels each image, M&gt;&gt;N), m is the mean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V</a:t>
            </a:r>
            <a:r>
              <a:rPr b="0" lang="en-GB" sz="1800" spc="-1" strike="noStrike">
                <a:solidFill>
                  <a:srgbClr val="969696"/>
                </a:solidFill>
                <a:latin typeface="Tahoma"/>
              </a:rPr>
              <a:t> = Matrix containing the K principal eigenvectors (computed from SVD of the Covariance Matri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P</a:t>
            </a:r>
            <a:r>
              <a:rPr b="0" lang="en-GB" sz="1800" spc="-1" strike="noStrike">
                <a:solidFill>
                  <a:srgbClr val="969696"/>
                </a:solidFill>
                <a:latin typeface="Tahoma"/>
              </a:rPr>
              <a:t> = Reduced (projected) data matrix. (K x N, K&lt;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6000" y="4724280"/>
            <a:ext cx="14436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0" y="4724280"/>
            <a:ext cx="14436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50160" y="379728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3366ff"/>
          </a:solidFill>
          <a:ln w="381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lnSpc>
                <a:spcPct val="90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CA database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ll images of the route must be available before carrying out the compres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robots to follow the route must wait the leader one finishes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n a new image is added, the database must be built from the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357120" algn="just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remental PCA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rogressive construction of the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utationally expens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357120" algn="just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CA is not invariant to ro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47640" y="4005360"/>
          <a:ext cx="5688360" cy="263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7640" y="4005360"/>
                    <a:ext cx="5688360" cy="26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07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URIER TRANSFOR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noramic images can be transformed to another compact representation into the Fourier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11280" y="2276640"/>
                <a:ext cx="274932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11280" y="3213000"/>
                <a:ext cx="2868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284720" y="2565360"/>
                <a:ext cx="3959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k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1872000" y="2743920"/>
            <a:ext cx="358560" cy="43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79280" y="4862520"/>
            <a:ext cx="5276880" cy="12762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289" name=""/>
          <p:cNvSpPr/>
          <p:nvPr/>
        </p:nvSpPr>
        <p:spPr>
          <a:xfrm>
            <a:off x="5651640" y="5365800"/>
            <a:ext cx="576000" cy="430200"/>
          </a:xfrm>
          <a:prstGeom prst="rightArrow">
            <a:avLst>
              <a:gd name="adj1" fmla="val 50000"/>
              <a:gd name="adj2" fmla="val 33473"/>
            </a:avLst>
          </a:pr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6372360" y="4502160"/>
            <a:ext cx="2376360" cy="216684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2411280" y="2925720"/>
            <a:ext cx="17290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3789360"/>
            <a:ext cx="8964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{a</a:t>
            </a:r>
            <a:r>
              <a:rPr b="1" lang="en-GB" sz="1800" spc="-1" strike="noStrike" baseline="-25000">
                <a:solidFill>
                  <a:srgbClr val="969696"/>
                </a:solidFill>
                <a:latin typeface="Tahoma"/>
              </a:rPr>
              <a:t>n</a:t>
            </a: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}</a:t>
            </a:r>
            <a:r>
              <a:rPr b="0" lang="en-GB" sz="1800" spc="-1" strike="noStrike">
                <a:solidFill>
                  <a:srgbClr val="969696"/>
                </a:solidFill>
                <a:latin typeface="Tahoma"/>
              </a:rPr>
              <a:t> = Initial sequence of complex numb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{A</a:t>
            </a:r>
            <a:r>
              <a:rPr b="1" lang="en-GB" sz="1800" spc="-1" strike="noStrike" baseline="-25000">
                <a:solidFill>
                  <a:srgbClr val="969696"/>
                </a:solidFill>
                <a:latin typeface="Tahoma"/>
              </a:rPr>
              <a:t>n</a:t>
            </a: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}</a:t>
            </a:r>
            <a:r>
              <a:rPr b="0" lang="en-GB" sz="1800" spc="-1" strike="noStrike">
                <a:solidFill>
                  <a:srgbClr val="969696"/>
                </a:solidFill>
                <a:latin typeface="Tahoma"/>
              </a:rPr>
              <a:t> = Transformed sequence of complex numb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24000" y="623088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ach row is transformed to the Fourier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URIER TRANSFOR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n using omnidirectional images for localiz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5112000" cy="23479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466560" y="1844640"/>
            <a:ext cx="799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884240" indent="-45720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most relevant information in the Fourier domain concentrates in the low frequency compon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884240" indent="-45720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tational invari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URIER TRANSFOR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n using omnidirectional images for localiz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5112000" cy="23479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79280" y="5711760"/>
                <a:ext cx="4176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ℑ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498920" y="5626080"/>
            <a:ext cx="489744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Tahoma"/>
              </a:rPr>
              <a:t>{a</a:t>
            </a:r>
            <a:r>
              <a:rPr b="1" lang="en-GB" sz="1600" spc="-1" strike="noStrike" baseline="-25000">
                <a:solidFill>
                  <a:srgbClr val="969696"/>
                </a:solidFill>
                <a:latin typeface="Tahoma"/>
              </a:rPr>
              <a:t>n-q</a:t>
            </a:r>
            <a:r>
              <a:rPr b="1" lang="en-GB" sz="1600" spc="-1" strike="noStrike">
                <a:solidFill>
                  <a:srgbClr val="969696"/>
                </a:solidFill>
                <a:latin typeface="Tahoma"/>
              </a:rPr>
              <a:t>}</a:t>
            </a: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 = Shifted sequence (</a:t>
            </a:r>
            <a:r>
              <a:rPr b="0" i="1" lang="en-GB" sz="1600" spc="-1" strike="noStrike">
                <a:solidFill>
                  <a:srgbClr val="969696"/>
                </a:solidFill>
                <a:latin typeface="Tahoma"/>
              </a:rPr>
              <a:t>q</a:t>
            </a: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 = amount of shift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Tahoma"/>
              </a:rPr>
              <a:t>A</a:t>
            </a:r>
            <a:r>
              <a:rPr b="1" lang="en-GB" sz="1600" spc="-1" strike="noStrike" baseline="-25000">
                <a:solidFill>
                  <a:srgbClr val="969696"/>
                </a:solidFill>
                <a:latin typeface="Tahoma"/>
              </a:rPr>
              <a:t>k</a:t>
            </a: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 = Components of the Fourier transform of the non-shifted seque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6560" y="1844640"/>
            <a:ext cx="799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884240" indent="-45720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most relevant information in the Fourier domain concentrates in the low frequency compon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884240" indent="-45720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tational invari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URIER TRANSFOR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n using omnidirectional images for localiz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5112000" cy="23479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5711760"/>
                <a:ext cx="4176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ℑ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4498920" y="5626080"/>
            <a:ext cx="489744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Tahoma"/>
              </a:rPr>
              <a:t>{a</a:t>
            </a:r>
            <a:r>
              <a:rPr b="1" lang="en-GB" sz="1600" spc="-1" strike="noStrike" baseline="-25000">
                <a:solidFill>
                  <a:srgbClr val="969696"/>
                </a:solidFill>
                <a:latin typeface="Tahoma"/>
              </a:rPr>
              <a:t>n-q</a:t>
            </a:r>
            <a:r>
              <a:rPr b="1" lang="en-GB" sz="1600" spc="-1" strike="noStrike">
                <a:solidFill>
                  <a:srgbClr val="969696"/>
                </a:solidFill>
                <a:latin typeface="Tahoma"/>
              </a:rPr>
              <a:t>}</a:t>
            </a: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 = Shifted sequence (</a:t>
            </a:r>
            <a:r>
              <a:rPr b="0" i="1" lang="en-GB" sz="1600" spc="-1" strike="noStrike">
                <a:solidFill>
                  <a:srgbClr val="969696"/>
                </a:solidFill>
                <a:latin typeface="Tahoma"/>
              </a:rPr>
              <a:t>q</a:t>
            </a: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 = amount of shift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Tahoma"/>
              </a:rPr>
              <a:t>A</a:t>
            </a:r>
            <a:r>
              <a:rPr b="1" lang="en-GB" sz="1600" spc="-1" strike="noStrike" baseline="-25000">
                <a:solidFill>
                  <a:srgbClr val="969696"/>
                </a:solidFill>
                <a:latin typeface="Tahoma"/>
              </a:rPr>
              <a:t>k</a:t>
            </a: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 = Components of the Fourier transform of the non-shifted seque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6560" y="1844640"/>
            <a:ext cx="799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884240" indent="-45720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most relevant information in the Fourier domain concentrates in the low frequency compon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884240" indent="-45720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tational invari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47640" y="5570640"/>
            <a:ext cx="100836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38560" y="6308640"/>
            <a:ext cx="230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Magnitude =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Only phase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497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e learning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826920" y="6219720"/>
                <a:ext cx="2560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C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184720" cy="39402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172120" y="6219720"/>
                <a:ext cx="24969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F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5788080"/>
            <a:ext cx="331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Original panoramic imag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21440" y="5788080"/>
            <a:ext cx="331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Fourier matrices (F &lt; C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95640" y="6004080"/>
            <a:ext cx="576360" cy="430200"/>
          </a:xfrm>
          <a:prstGeom prst="rightArrow">
            <a:avLst>
              <a:gd name="adj1" fmla="val 50000"/>
              <a:gd name="adj2" fmla="val 33494"/>
            </a:avLst>
          </a:pr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CALIZATION OF THE FOLLOWER ROB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follower robot captures an image and transforms it to the Fourier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Fourier matrix is compared with the matrices in the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most similar point is the nearest position of the rob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79280" y="2989440"/>
                <a:ext cx="2982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l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l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…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8000" y="2997360"/>
            <a:ext cx="5688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500" spc="-1" strike="noStrike">
                <a:solidFill>
                  <a:srgbClr val="969696"/>
                </a:solidFill>
                <a:latin typeface="Arial"/>
              </a:rPr>
              <a:t>[t]</a:t>
            </a:r>
            <a:r>
              <a:rPr b="1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= Fourier matrix of the image captured by the follower robot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500" spc="-1" strike="noStrike">
                <a:solidFill>
                  <a:srgbClr val="969696"/>
                </a:solidFill>
                <a:latin typeface="Arial"/>
              </a:rPr>
              <a:t>[t]</a:t>
            </a:r>
            <a:r>
              <a:rPr b="1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= Fourier matrices stored in the database by the leader robo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CALIZATION OF THE FOLLOWER ROB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follower robot captures an image and transforms it to the Fourier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Fourier matrix is compared with the matrices in the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most similar point is the nearest position of the rob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6040" indent="-3571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ERTURE PROBLEM IN OFFICE ENVIRON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abilistic approa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79280" y="2989440"/>
                <a:ext cx="2982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l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l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…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48000" y="2997360"/>
            <a:ext cx="5688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500" spc="-1" strike="noStrike">
                <a:solidFill>
                  <a:srgbClr val="969696"/>
                </a:solidFill>
                <a:latin typeface="Arial"/>
              </a:rPr>
              <a:t>[t]</a:t>
            </a:r>
            <a:r>
              <a:rPr b="1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= Fourier matrix of the image captured by the follower robot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500" spc="-1" strike="noStrike">
                <a:solidFill>
                  <a:srgbClr val="969696"/>
                </a:solidFill>
                <a:latin typeface="Arial"/>
              </a:rPr>
              <a:t>[t]</a:t>
            </a:r>
            <a:r>
              <a:rPr b="1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= Fourier matrices stored in the database by the leader robo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4000" y="5526000"/>
            <a:ext cx="88200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268200"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p(y</a:t>
            </a:r>
            <a:r>
              <a:rPr b="1" i="1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| 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[t]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;</a:t>
            </a:r>
            <a:r>
              <a:rPr b="1" i="1" lang="en-GB" sz="1500" spc="-1" strike="noStrike">
                <a:solidFill>
                  <a:srgbClr val="969696"/>
                </a:solidFill>
                <a:latin typeface="Symbol"/>
                <a:ea typeface="Symbol"/>
              </a:rPr>
              <a:t>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)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is the probability of observing the Fourier Matrix [t]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if the position of the robot is y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46040" indent="-268200"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p(y</a:t>
            </a:r>
            <a:r>
              <a:rPr b="1" i="1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)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is the probability that the robot is on the position y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before observing the Fourier Matrix [t]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. This value is estimated using the information of the previous position and the motion mode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46040" indent="-268200"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p(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[t]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|y</a:t>
            </a:r>
            <a:r>
              <a:rPr b="1" i="1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;</a:t>
            </a:r>
            <a:r>
              <a:rPr b="1" i="1" lang="en-GB" sz="1500" spc="-1" strike="noStrike">
                <a:solidFill>
                  <a:srgbClr val="969696"/>
                </a:solidFill>
                <a:latin typeface="Symbol"/>
                <a:ea typeface="Symbol"/>
              </a:rPr>
              <a:t>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)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is the probability of observing [t]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if the position of the robot is y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. OBSERVATION MODE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663480" y="4892760"/>
                <a:ext cx="35481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39640" y="1628640"/>
                <a:ext cx="46278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σ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0920" y="1125360"/>
            <a:ext cx="8353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87720" indent="-31068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SERVATION MODE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6920" y="1781280"/>
            <a:ext cx="31687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 indent="-936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Sum of Gaussian kernels, centred on the </a:t>
            </a:r>
            <a:r>
              <a:rPr b="0" i="1" lang="en-GB" sz="15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 most similar points of the rout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84360" y="1700280"/>
            <a:ext cx="35892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00360" y="2565360"/>
            <a:ext cx="503280" cy="3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48000" y="2852640"/>
            <a:ext cx="410364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 indent="-936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Degree of similarity between the Fourier matrix of the currently captured image [t]</a:t>
            </a:r>
            <a:r>
              <a:rPr b="0" lang="en-GB" sz="15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n-GB" sz="15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-th Fourier matrix of the databas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39640" y="1628640"/>
                <a:ext cx="46278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σ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1125360"/>
            <a:ext cx="8353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87720" indent="-31068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SERVATION MODE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06920" y="1781280"/>
            <a:ext cx="31687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 indent="-936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Sum of Gaussian kernels, centred on the </a:t>
            </a:r>
            <a:r>
              <a:rPr b="0" i="1" lang="en-GB" sz="15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 most similar points of the rout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2448000" cy="19321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6338880" cy="34099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27144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 OF THE FOLLOWER ROB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ce the localization of the follower robot is known, its control action must be computed so that it tends to the route and follows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The follower robot has to compute its orientation, comparing to the original heading that the leader robot had when it captured the image at that position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ethod based on the extraction of some sub-windows along the panoramic images has been develop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Robust against small changes in illumination, partial occlusions and position of some objects in the environmen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27144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 OF THE FOLLOWER ROB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ce the localization of the follower robot is known, its control action must be computed so that it tends to the route and follows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The follower robot has to compute its orientation, comparing to the original heading that the leader robot had when it captured the image at that position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ethod based on the extraction of some sub-windows along the panoramic images has been develop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Robust against small changes in illumination, partial occlusions and position of some objects in the environmen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486080" y="5838840"/>
            <a:ext cx="4321080" cy="97488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386" name=""/>
          <p:cNvSpPr/>
          <p:nvPr/>
        </p:nvSpPr>
        <p:spPr>
          <a:xfrm>
            <a:off x="250920" y="407664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42720" algn="just">
              <a:spcBef>
                <a:spcPts val="11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set of sub-images is obtained from the panoramic image the follower robot has just captu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27144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 OF THE FOLLOWER ROB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ce the localization of the follower robot is known, its control action must be computed so that it tends to the route and follows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The follower robot has to compute its orientation, comparing to the original heading that the leader robot had when it captured the image at that position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ethod based on the extraction of some sub-windows along the panoramic images has been develop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Robust against small changes in illumination, partial occlusions and position of some objects in the environmen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1486080" y="4795920"/>
            <a:ext cx="4319280" cy="96984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1486080" y="5838840"/>
            <a:ext cx="4321080" cy="97488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395" name=""/>
          <p:cNvSpPr/>
          <p:nvPr/>
        </p:nvSpPr>
        <p:spPr>
          <a:xfrm>
            <a:off x="250920" y="407664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52440" algn="just">
              <a:spcBef>
                <a:spcPts val="1125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set of sub-images is obtained on the corresponding image of the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27144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 OF THE FOLLOWER ROB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ce the localization of the follower robot is known, its control action must be computed so that it tends to the route and follows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The follower robot has to compute its orientation, comparing to the original heading that the leader robot had when it captured the image at that position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ethod based on the extraction of some sub-windows along the panoramic images has been develop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Robust against small changes in illumination, partial occlusions and position of some objects in the environmen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1486080" y="4795920"/>
            <a:ext cx="4319280" cy="96984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1486080" y="5838840"/>
            <a:ext cx="4321080" cy="97488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404" name="" descr=""/>
          <p:cNvPicPr/>
          <p:nvPr/>
        </p:nvPicPr>
        <p:blipFill>
          <a:blip r:embed="rId6"/>
          <a:stretch/>
        </p:blipFill>
        <p:spPr>
          <a:xfrm>
            <a:off x="5878440" y="4795920"/>
            <a:ext cx="2006640" cy="20178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405" name=""/>
          <p:cNvSpPr/>
          <p:nvPr/>
        </p:nvSpPr>
        <p:spPr>
          <a:xfrm>
            <a:off x="250920" y="407664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1520" indent="-371520" algn="just">
              <a:spcBef>
                <a:spcPts val="1125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most similar sub-images in the corresponding image to the sub-images of the current image are extracte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486080" y="1123920"/>
            <a:ext cx="4319280" cy="96984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486080" y="2166840"/>
            <a:ext cx="4321080" cy="97488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878440" y="1123920"/>
            <a:ext cx="2006640" cy="20178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414" name=""/>
          <p:cNvSpPr/>
          <p:nvPr/>
        </p:nvSpPr>
        <p:spPr>
          <a:xfrm>
            <a:off x="250920" y="328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50640" indent="-341640" algn="just">
              <a:spcBef>
                <a:spcPts val="1125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is information is arranged on a char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1620720" y="3749760"/>
            <a:ext cx="6120000" cy="169524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416" name=""/>
          <p:cNvSpPr/>
          <p:nvPr/>
        </p:nvSpPr>
        <p:spPr>
          <a:xfrm>
            <a:off x="250920" y="566100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66320" indent="-166320" algn="just">
              <a:lnSpc>
                <a:spcPct val="9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veral least square fittings are carried out in an iterative process where data are shifted before each new regre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320" indent="-166320" algn="just">
              <a:lnSpc>
                <a:spcPct val="9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orientation of the robot is proportional to the number of shifts until the best fitting is achie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69696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69696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69696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41480" y="5905440"/>
            <a:ext cx="5043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Processor C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utes PCA subspace of the sub- window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utes the control action of Robot 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96000" y="4365720"/>
            <a:ext cx="3672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Robot B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ptures a new ima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utes the Fourier matri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utes the nearest posi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nds to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Processor C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042920" y="1052640"/>
          <a:ext cx="7129440" cy="32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052640"/>
                    <a:ext cx="7129440" cy="3246480"/>
                  </a:xfrm>
                  <a:prstGeom prst="rect">
                    <a:avLst/>
                  </a:prstGeom>
                  <a:ln w="255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.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920" y="4365720"/>
            <a:ext cx="3672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Robot A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ptures a new ima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nsforms to panoramic view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utes of the Fourier matri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nds to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Processor C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835280" y="638172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236000" y="666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835280" y="587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8028000" y="594972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.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08000" y="1079640"/>
            <a:ext cx="5757840" cy="566424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441" name=""/>
          <p:cNvSpPr/>
          <p:nvPr/>
        </p:nvSpPr>
        <p:spPr>
          <a:xfrm>
            <a:off x="6012000" y="1484280"/>
            <a:ext cx="2952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452520" indent="-273600" algn="just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ute of around 50 met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273600" algn="just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orded in an office environ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273600" algn="just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follower robot moves forward only if its orientation is near to the right orient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273600" algn="just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 experiment. Initial orientation = 180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273600" algn="just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ood performance on straight li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273600" algn="just"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latively bigger error on turni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08000" y="1079640"/>
            <a:ext cx="5761080" cy="56689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445" name=""/>
          <p:cNvSpPr/>
          <p:nvPr/>
        </p:nvSpPr>
        <p:spPr>
          <a:xfrm>
            <a:off x="6012000" y="4653000"/>
            <a:ext cx="2952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61880" indent="-279360" algn="just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overs from bad matchi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643280" y="1125360"/>
            <a:ext cx="4321440" cy="2955960"/>
          </a:xfrm>
          <a:prstGeom prst="rect">
            <a:avLst/>
          </a:prstGeom>
          <a:ln w="63360">
            <a:solidFill>
              <a:srgbClr val="000099"/>
            </a:solidFill>
            <a:miter/>
          </a:ln>
        </p:spPr>
      </p:pic>
      <p:sp>
        <p:nvSpPr>
          <p:cNvPr id="44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.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69696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69696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69696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69696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95280" y="1486080"/>
            <a:ext cx="8137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3400" indent="-30708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ork presents a purely appearance-based multi-robot route following using low-resolution panoramic images of the environment and techniques of dimensionality reduction to extract the most relevant information from the sce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3400" indent="-307080" algn="just"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D Fourier Transform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variability to ro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2800" indent="-458640" algn="just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ood for map building and localiz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3400" indent="-307080" algn="just"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CA sub-images approach to compute the orien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3400" indent="-307080" algn="just"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econd robot can follow the route of the first one with a certain distance as in space or in time, localizing itself with respect to the route made by the first rob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2800" indent="-458640" algn="just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abilistic algorithm to compute the position of the follower rob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3400" indent="-307080" algn="just"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experiments have been carried out with two Pioneer 3-AT Robots using a CORBA-based archit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5. 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2565360"/>
            <a:ext cx="87631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-ROBOT ROUTE FOLLOWING USING OMNIDIRECTIONAL VISION AND APPEARANCE-BASED REPRESENTATION OF TH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323640" y="4723920"/>
            <a:ext cx="856908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. Payá, O. Reinoso, A. Gil, J. Sogor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1073160" cy="1081080"/>
          </a:xfrm>
          <a:prstGeom prst="rect">
            <a:avLst/>
          </a:prstGeom>
          <a:ln w="3240">
            <a:solidFill>
              <a:srgbClr val="3333ff"/>
            </a:solidFill>
            <a:miter/>
          </a:ln>
        </p:spPr>
      </p:pic>
      <p:sp>
        <p:nvSpPr>
          <p:cNvPr id="463" name=""/>
          <p:cNvSpPr/>
          <p:nvPr/>
        </p:nvSpPr>
        <p:spPr>
          <a:xfrm>
            <a:off x="250920" y="1341360"/>
            <a:ext cx="8569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IGUEL HERNÁNDEZ UNIVERSITY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DUSTRIAL ENGINEERING SYSTEMS DEPARTM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4000" y="2276640"/>
            <a:ext cx="864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4000" y="5300640"/>
            <a:ext cx="8569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397240" y="5589720"/>
          <a:ext cx="4551120" cy="96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97240" y="5589720"/>
                    <a:ext cx="4551120" cy="960480"/>
                  </a:xfrm>
                  <a:prstGeom prst="rect">
                    <a:avLst/>
                  </a:prstGeom>
                  <a:ln w="648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3240000" cy="1082520"/>
          </a:xfrm>
          <a:prstGeom prst="rect">
            <a:avLst/>
          </a:prstGeom>
          <a:ln w="3240">
            <a:solidFill>
              <a:srgbClr val="000099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7640" y="1268280"/>
            <a:ext cx="87850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279360">
              <a:lnSpc>
                <a:spcPct val="90000"/>
              </a:lnSpc>
              <a:spcBef>
                <a:spcPts val="1176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esence of robots in our houses and factories is continuously increas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433520" indent="-36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etitive or unpleasant tas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279360">
              <a:lnSpc>
                <a:spcPct val="90000"/>
              </a:lnSpc>
              <a:spcBef>
                <a:spcPts val="134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 expand their range of home application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433520" indent="-36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er degree of autonomy, fulfilment and robust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4221000"/>
            <a:ext cx="2592360" cy="1008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IENT ENVIRONMENT RE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573408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ariation in illu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40360" y="3716280"/>
            <a:ext cx="0" cy="43020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8720" y="5300640"/>
            <a:ext cx="431640" cy="35892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5300640"/>
            <a:ext cx="0" cy="43020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84360" y="5300640"/>
            <a:ext cx="432000" cy="36036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9640" y="57340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ccl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4360" y="5734080"/>
            <a:ext cx="22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nge in the position of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1574640"/>
            <a:ext cx="1511280" cy="703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71640" y="1413000"/>
            <a:ext cx="2521080" cy="1008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ION BETWEEN A TEAM OF ROB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0360" y="14130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task is carried out quicker and in a more reliable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00" y="526248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UTE 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5191200"/>
            <a:ext cx="55432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e robot following a leader one (formations problem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llowing a route that a previous robot has record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1917720"/>
            <a:ext cx="576360" cy="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1280" y="1917720"/>
            <a:ext cx="576000" cy="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5407200"/>
            <a:ext cx="504720" cy="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2911320"/>
            <a:ext cx="8569080" cy="17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ach robot works with incomplete and changing inform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presentation of the environme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ommunication between robot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2360" y="3971880"/>
            <a:ext cx="2519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Complete knowledge of the environmen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2000" y="378936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363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in methods to carry out visual rout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odel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ppearance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8:20:43Z</dcterms:created>
  <dc:creator>Luis Payá Castelló</dc:creator>
  <dc:description/>
  <dc:language>en-US</dc:language>
  <cp:lastModifiedBy>CC.EE. y Empresariales</cp:lastModifiedBy>
  <dcterms:modified xsi:type="dcterms:W3CDTF">2008-09-24T16:46:17Z</dcterms:modified>
  <cp:revision>100</cp:revision>
  <dc:subject/>
  <dc:title>DISTRIBUTED PLATFORM FOR THE CONTROL OF THE WIFIBOT ROBOT THROUGH INTERNET</dc:title>
</cp:coreProperties>
</file>